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47C-11CF-4856-AEC0-5A91FCDE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483-655B-451C-AC4F-1181D8C1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110-2586-4D2D-9AFB-0F4C318B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E8E-E6E2-4404-B56C-F75BF68B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C722-3F05-457F-BDB5-F122ECE8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FB40-A478-4FC3-94FD-B0B9D373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6A12-F15B-44BC-823E-8E22F63A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D0A6-DEFA-4E74-8E81-D3C3CD01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855E-0C2E-43CA-9ECE-7CF1149F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33B1-D4CF-4A54-AFB2-B260CD8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8B27-951A-4022-B8D0-DA28681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FD8-0FF7-4929-B512-9690E05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7AC8-AE5F-4662-BE8B-70B1647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4C6B-6560-42D3-BB32-209A726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0588-9A6A-4CCF-9F34-6FB7AF7F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A2C0-677C-4957-B4D6-AE74A29C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6683-5FE7-45D9-967B-613100EB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3F7-164D-49C9-BED3-4C12ADD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2A6-3979-4FCE-B8CB-8EF58D0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50F-8B88-4605-9AEC-DE64CC21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B2A-A782-4466-9CB9-020FDA6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A65-A5FC-45DC-81A7-9D6D629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1A5-B9D1-44D5-B8D8-E3636424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7C4-4A2B-4390-B2FD-C851861B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768D-AE4D-4133-9EF5-9B8206BE55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71A9-6F93-4512-9A5E-0524A41ACAD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Тема урока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304920" y="1447920"/>
            <a:ext cx="8381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окровы тел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16" name="WordArt 6" descr="Белый мрамор"/>
          <p:cNvPicPr/>
          <p:nvPr/>
        </p:nvPicPr>
        <p:blipFill>
          <a:blip r:embed="rId1"/>
          <a:stretch/>
        </p:blipFill>
        <p:spPr>
          <a:xfrm>
            <a:off x="73080" y="3260880"/>
            <a:ext cx="8620200" cy="3255840"/>
          </a:xfrm>
          <a:prstGeom prst="rect">
            <a:avLst/>
          </a:prstGeom>
          <a:ln w="0">
            <a:noFill/>
          </a:ln>
        </p:spPr>
      </p:pic>
      <p:sp>
        <p:nvSpPr>
          <p:cNvPr id="117" name="Oval 8"/>
          <p:cNvSpPr/>
          <p:nvPr/>
        </p:nvSpPr>
        <p:spPr>
          <a:xfrm>
            <a:off x="3352680" y="3429000"/>
            <a:ext cx="2133720" cy="5335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Цель урок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rcRect l="927" t="6737" r="55558" b="47809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43" name="Rectangle 4"/>
          <p:cNvSpPr/>
          <p:nvPr/>
        </p:nvSpPr>
        <p:spPr>
          <a:xfrm>
            <a:off x="838080" y="509400"/>
            <a:ext cx="401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Перья делают тело обтекаемым и обеспечивают полет. По своему назначению они делятся на полетные перья (маховые и рулевые) и кроющие (головы, тела, крыльев, хвоста)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3520" y="1823040"/>
            <a:ext cx="312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Перья и пух не только сохраняют тепло, но и позволяют управлять теплоотдачей птицы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Когда птице холодно, она распушает оперение, уменьшая его теплопроводность. Когда птице жарко, она прижимает оперение, увеличивая его теплопроводность.           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9739440" y="18939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Жировые клетки – запас питательных веществ, улучшает терморегуляцию, защищают от ударов и механических воздейств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альные железы выделяют жир, который смазывает волосы и делает их эластичными и малонамокаемы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отовые железы выделяют пот, который испаряется с поверхности кожи и охлаждает организм животного. Усиление потоотделения происходит в жаркую погоду при увеличении физических нагрузок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aeaea"/>
                </a:solidFill>
                <a:latin typeface="Verdana"/>
              </a:rPr>
              <a:t>Л. р. №6. </a:t>
            </a:r>
            <a:r>
              <a:rPr b="0" i="1" lang="ru-RU" sz="6000" spc="-1" strike="noStrike">
                <a:solidFill>
                  <a:srgbClr val="eaeaea"/>
                </a:solidFill>
                <a:latin typeface="Verdana"/>
              </a:rPr>
              <a:t> Изучение  особенностей  различных покровов  тела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мёба обыкновен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574120" y="1725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Содержимое 18" descr="http://www.ebio.ru/images/02020101.gif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Инфузория туфелька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Рисунок 7" descr="http://my-edu.ru/edu_bio/img/2_08_2.jpg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5"/>
          <p:cNvSpPr/>
          <p:nvPr/>
        </p:nvSpPr>
        <p:spPr>
          <a:xfrm>
            <a:off x="13032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3032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вглена зелё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Содержимое 9" descr="http://www.ebio.ru/images/02030102.gif"/>
          <p:cNvPicPr/>
          <p:nvPr/>
        </p:nvPicPr>
        <p:blipFill>
          <a:blip r:embed="rId1"/>
          <a:srcRect l="0" t="0" r="50006" b="0"/>
          <a:stretch/>
        </p:blipFill>
        <p:spPr>
          <a:xfrm>
            <a:off x="990720" y="13716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елая план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Рисунок 6" descr="http://www.univertv.ru/resize.php?img=/files/pages/page_11522/belaya%20planariya.jpeg"/>
          <p:cNvPicPr/>
          <p:nvPr/>
        </p:nvPicPr>
        <p:blipFill>
          <a:blip r:embed="rId1"/>
          <a:stretch/>
        </p:blipFill>
        <p:spPr>
          <a:xfrm>
            <a:off x="762120" y="1600200"/>
            <a:ext cx="693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кообразны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032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610480" y="5790960"/>
            <a:ext cx="763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Рисунок 9" descr="http://festival.1september.ru/articles/504463/img2.gif"/>
          <p:cNvPicPr/>
          <p:nvPr/>
        </p:nvPicPr>
        <p:blipFill>
          <a:blip r:embed="rId1"/>
          <a:stretch/>
        </p:blipFill>
        <p:spPr>
          <a:xfrm>
            <a:off x="762120" y="14479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комар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Содержимое 7" descr="http://intrest.ru/wp-content/uploads/2009/11/komar.jpg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кож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Содержимое 5" descr="http://www.estheticlife.ru/image/roc_kartinki/stroenie_koji/image001.gif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п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нкая двухслойная кожа лишена потовых желёз и покрыта пухом и перьями. Перья разделяются на служащие для полёта маховые и рулевые и на одевающие тело покровные. Маховые и рулевые перья большие и жёсткие, покровные (контурные и пуховые) – небольшие и мягк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5" descr="06060102"/>
          <p:cNvPicPr/>
          <p:nvPr/>
        </p:nvPicPr>
        <p:blipFill>
          <a:blip r:embed="rId1"/>
          <a:srcRect l="44675" t="0" r="0" b="46008"/>
          <a:stretch/>
        </p:blipFill>
        <p:spPr>
          <a:xfrm>
            <a:off x="4114800" y="3276720"/>
            <a:ext cx="4800600" cy="32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06060102"/>
          <p:cNvPicPr/>
          <p:nvPr/>
        </p:nvPicPr>
        <p:blipFill>
          <a:blip r:embed="rId2"/>
          <a:srcRect l="227" t="54002" r="62448" b="0"/>
          <a:stretch/>
        </p:blipFill>
        <p:spPr>
          <a:xfrm>
            <a:off x="457200" y="35812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1-02-08T04:27:1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